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FF9-B421-4494-B11B-2127E5AB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F5F-0D8B-4A5D-A24E-119B790E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941-17AD-4E7C-8FC7-41709F36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1C0-093F-4DFB-8C07-14857C74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170-93E2-4DFF-8EFA-19FC805C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143-6D2E-4FB7-B5EC-71530F26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B36-9BCD-478F-83BB-EC884DB2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A2E-8253-43B5-B74A-E2F26B73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BE8-1E0B-4FE1-8289-4028BB1B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5B6-E9B3-4CE8-90D2-A693EC0B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F2E-7610-4EAF-858D-32D815CF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7FF-4FE7-4F42-A30B-1A4149D8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83D7-D26A-474D-BFB5-306987DF3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2:35:30Z</dcterms:created>
  <dc:creator>Patrick J. Mooney</dc:creator>
  <dc:description/>
  <dc:language>en-US</dc:language>
  <cp:lastModifiedBy>Patrick J. Mooney</cp:lastModifiedBy>
  <dcterms:modified xsi:type="dcterms:W3CDTF">2011-12-01T02:37:21Z</dcterms:modified>
  <cp:revision>2</cp:revision>
  <dc:subject/>
  <dc:title>Slide 1</dc:title>
</cp:coreProperties>
</file>